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jpeg" ContentType="image/jpeg"/>
  <Override PartName="/ppt/media/image12.png" ContentType="image/png"/>
  <Override PartName="/ppt/media/image7.wmf" ContentType="image/x-wmf"/>
  <Override PartName="/ppt/media/image4.png" ContentType="image/png"/>
  <Override PartName="/ppt/media/image27.png" ContentType="image/png"/>
  <Override PartName="/ppt/media/image13.jpeg" ContentType="image/jpeg"/>
  <Override PartName="/ppt/media/image5.jpeg" ContentType="image/jpeg"/>
  <Override PartName="/ppt/media/image28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32.png" ContentType="image/png"/>
  <Override PartName="/ppt/media/image30.png" ContentType="image/png"/>
  <Override PartName="/ppt/media/image3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B6E-0A49-4EE5-9265-AE5AD7B5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427-BECB-4A9C-9DC8-D8C0AD8D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A21-3C7D-4EC0-9F5E-243020EF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368A-2A48-4518-B669-F097ABAA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CE22-AEAD-4F8A-ABC5-994731BB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D8DC-100C-452D-B0E3-789C6035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4017-F9D6-4BEA-BA67-586036E1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48DA-9B39-4BDD-BF55-91D9DD7E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AA8A-6178-47D1-A70E-D7CC0B65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E3FA-09E7-4430-985E-32BA5B38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F028-33C6-415A-9A27-224BD859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10A-AA45-4DD5-8017-B116A51D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08D1-51BC-453E-BF42-EC56DAFA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3E66-4B79-406D-864F-F7E323A6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6752-62FF-4C78-9B6A-C8540625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64E8-26FA-4D8F-8D65-349E7267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FA03-7888-471F-BC8C-526527E7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4C2-64B5-4BA2-A57D-668A6B96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F13-68E5-4632-80C6-06E297D3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AEB-4FD9-446A-95AF-15D70C7D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D37-3C29-49CE-9D03-A0D1256C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F29-506B-4F77-B222-D55C6601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AA5-2118-4BD0-A233-CBBDA7BD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440E-9F7B-467B-AFA2-20A3A562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1158-9227-47D9-8B86-B60C6A08E4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4F68-FA71-4946-A35C-EFEA07A17A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uZetian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outube.com/watch?v=XqHR1uAc_-Q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Starting Promp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the elements of a golden age?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the elements found in collapsing civilizatio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od Block Printing – 7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c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1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antage – 40,000 Chinese characters – easier to carve only o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for canonica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Buddhist tex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later Confucius wri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Scholar-gentr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replaced landed aristocracy as political and economic eli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veable Type introduced in 105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705720" y="4343400"/>
            <a:ext cx="1616040" cy="1465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amond Sutra, earliest printed text - 86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9" descr="diamond_sutra_fronti"/>
          <p:cNvPicPr/>
          <p:nvPr/>
        </p:nvPicPr>
        <p:blipFill>
          <a:blip r:embed="rId1"/>
          <a:stretch/>
        </p:blipFill>
        <p:spPr>
          <a:xfrm>
            <a:off x="1981080" y="4191120"/>
            <a:ext cx="4419720" cy="2604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History of Chinese Invention and Discovery"/>
          <p:cNvPicPr/>
          <p:nvPr/>
        </p:nvPicPr>
        <p:blipFill>
          <a:blip r:embed="rId2"/>
          <a:stretch/>
        </p:blipFill>
        <p:spPr>
          <a:xfrm>
            <a:off x="7086600" y="152280"/>
            <a:ext cx="18194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ng Continu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ivil service exam reintroduced - will be used for next 1300 yrs (covered names, printed so never knew test taker) - 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meritocr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d 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land-equalization system 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istributing land based on size of house-hold – strengthen central govt., weakened power of large land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main exports of China come into vogue – 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tea, silk, and porcela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ng Technolog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el introduced (mixing cast iron and wrought iron in fire) for swo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tton intro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Gunpow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explosives and primitive flamethrowers (40 yrds) made of saltpeter, sulfur and charco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chanical Clocks (learned water-powered clocks from Middle Eastern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fire"/>
          <p:cNvPicPr/>
          <p:nvPr/>
        </p:nvPicPr>
        <p:blipFill>
          <a:blip r:embed="rId1"/>
          <a:stretch/>
        </p:blipFill>
        <p:spPr>
          <a:xfrm>
            <a:off x="4952880" y="2057400"/>
            <a:ext cx="33242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dieval China – Intellectual/Tec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876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i’s Grand Ca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ng’s City of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hang’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eastern most city of Silk Road – wealthiest in worl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304920" y="3200400"/>
            <a:ext cx="5105160" cy="3882240"/>
            <a:chOff x="304920" y="3200400"/>
            <a:chExt cx="5105160" cy="3882240"/>
          </a:xfrm>
        </p:grpSpPr>
        <p:pic>
          <p:nvPicPr>
            <p:cNvPr id="129" name="Picture 5" descr=""/>
            <p:cNvPicPr/>
            <p:nvPr/>
          </p:nvPicPr>
          <p:blipFill>
            <a:blip r:embed="rId1"/>
            <a:stretch/>
          </p:blipFill>
          <p:spPr>
            <a:xfrm>
              <a:off x="418680" y="3200400"/>
              <a:ext cx="4991400" cy="366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6"/>
            <p:cNvSpPr/>
            <p:nvPr/>
          </p:nvSpPr>
          <p:spPr>
            <a:xfrm rot="16200000">
              <a:off x="-1114560" y="5348160"/>
              <a:ext cx="315396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©2004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dsworth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, a division of Thomson Learning, Inc.  Thomson Learning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Times New Roman"/>
                </a:rPr>
                <a:t>™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is a trademark used herein under license.      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1" name="Picture 7" descr="mch07_06"/>
          <p:cNvPicPr/>
          <p:nvPr/>
        </p:nvPicPr>
        <p:blipFill>
          <a:blip r:embed="rId2"/>
          <a:stretch/>
        </p:blipFill>
        <p:spPr>
          <a:xfrm>
            <a:off x="5867280" y="152280"/>
            <a:ext cx="2895840" cy="704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7320" y="75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lk Ro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640" y="5562720"/>
            <a:ext cx="5300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75840" indent="-3758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ian = Chang-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" descr="http://www.absolutechinatours.com/UploadFiles/ImageBase/maritimesilkroad.gif"/>
          <p:cNvPicPr/>
          <p:nvPr/>
        </p:nvPicPr>
        <p:blipFill>
          <a:blip r:embed="rId1"/>
          <a:stretch/>
        </p:blipFill>
        <p:spPr>
          <a:xfrm>
            <a:off x="457200" y="1154160"/>
            <a:ext cx="7832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une 2016 Regents - Themati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300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255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2895480" cy="380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343400" y="2849400"/>
            <a:ext cx="3400560" cy="19512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"/>
          <p:cNvSpPr/>
          <p:nvPr/>
        </p:nvSpPr>
        <p:spPr>
          <a:xfrm>
            <a:off x="4800600" y="533520"/>
            <a:ext cx="2943360" cy="838080"/>
          </a:xfrm>
          <a:prstGeom prst="rect">
            <a:avLst/>
          </a:prstGeom>
          <a:solidFill>
            <a:srgbClr val="7030a0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nuary 2017 Reg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dieval China – Politics (Tang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akness of Tang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empire expanded beyond effective communic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control (provincial governors rebelled), as wealth increased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orruption and intrigu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unuch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trolled access to emperors, became policy makers), expanded bureaurcacy led to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creased tax and peasant revol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land given to rich landlor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Image:Tang dynasty1.PNG"/>
          <p:cNvPicPr/>
          <p:nvPr/>
        </p:nvPicPr>
        <p:blipFill>
          <a:blip r:embed="rId1"/>
          <a:stretch/>
        </p:blipFill>
        <p:spPr>
          <a:xfrm>
            <a:off x="5029200" y="1752480"/>
            <a:ext cx="40384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dieval China – Politics (Tang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5562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Empress Wu (690-70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ly woman to rule China as independent sovere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ubine of emperor Gao-zong – used her power to place relatives in key positions, owed loyalty to her when he d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osed in her 80s by aristocratic reaction to her excesses and </a:t>
            </a: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nepotism (favoritism to relativ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arded as evil villain – but not really bad ru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5" descr="250px-WuZeti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057400"/>
            <a:ext cx="2816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Asian World 400-150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na – Mongols – Early Japan/Korea – India – Southeast As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ng Collap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nt too lavishly (one emperor kept 100s of dancers and musicians to entertain his mistr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ab army defeats Chinese in east in 751 (Chinese prisoners teach Arabs how to make pap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asant uprisings break China into 10 st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tually turn against Buddhist who had amassed great weal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ng Collap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eign Invad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80880" y="2743200"/>
            <a:ext cx="396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entury – Khitan (northern nomadic people) caused collapse (used classic strategy of “barbarians to oppose barbarians” – hired Turkish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Uighu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 protect Silk Road, but Kirghis [another nomadic group] defeated Uighurs and then turned on Ta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What do we know about mercenari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Content Placeholder 5" descr="Image:Premongol copy.png"/>
          <p:cNvPicPr/>
          <p:nvPr/>
        </p:nvPicPr>
        <p:blipFill>
          <a:blip r:embed="rId1"/>
          <a:stretch/>
        </p:blipFill>
        <p:spPr>
          <a:xfrm>
            <a:off x="4643280" y="2346480"/>
            <a:ext cx="392436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ng Dynasty (960-1275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conomic Prosperit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5105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ron &amp; Steel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aper Curr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troduc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Interest in trade – colonies in SE Asia, larger ships (600 people plus cargo) w/multiple masts,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compa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Neo-Confucian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revival of Confucian thought, now mixed with Daoism &amp; Buddhism.  - stressed importance of observation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vestig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sungfdr"/>
          <p:cNvPicPr/>
          <p:nvPr/>
        </p:nvPicPr>
        <p:blipFill>
          <a:blip r:embed="rId1"/>
          <a:stretch/>
        </p:blipFill>
        <p:spPr>
          <a:xfrm>
            <a:off x="5334120" y="1676520"/>
            <a:ext cx="3362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dieval China – Politics (Song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rthern Song (960 to 112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fied northern China (except nomadic Khitan), moved capital east to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Kaife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where Grand Canal w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ant threat from Central Eurasian noma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1xarsong"/>
          <p:cNvPicPr/>
          <p:nvPr/>
        </p:nvPicPr>
        <p:blipFill>
          <a:blip r:embed="rId1"/>
          <a:stretch/>
        </p:blipFill>
        <p:spPr>
          <a:xfrm>
            <a:off x="3809880" y="1295280"/>
            <a:ext cx="583884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dieval China – Politics (Song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outhern Song (1127 to 127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madic pressures – forced to move capital south to Hangzhou on coast of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Yangt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st control of Tib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conomic expa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creased pop. to 40 mill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ng rulers forced to pay tribute to foreigners (Jurchen/Jin in Manchur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2920" y="3962160"/>
            <a:ext cx="3924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7" descr="1xarsong"/>
          <p:cNvPicPr/>
          <p:nvPr/>
        </p:nvPicPr>
        <p:blipFill>
          <a:blip r:embed="rId1"/>
          <a:stretch/>
        </p:blipFill>
        <p:spPr>
          <a:xfrm>
            <a:off x="4572000" y="1676520"/>
            <a:ext cx="4924440" cy="4233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642920" y="1752120"/>
            <a:ext cx="3924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une 201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ich achievements are most closely associated with the Tang and Song dynasties of Chin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1) wheel and stirr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2) chinampas and calend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3) gunpowder and movable wooden 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4) mosaics and dom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inese Wom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gher position in Tang than in later dynasti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wries provided to men, women did not own anyth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Verdana"/>
              </a:rPr>
              <a:t>Footbinding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merged to show subordinate position (lily-shaped foot sign of beauty) – also sign of no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otbi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5" descr="footpic.gif (88129 bytes)"/>
          <p:cNvPicPr/>
          <p:nvPr/>
        </p:nvPicPr>
        <p:blipFill>
          <a:blip r:embed="rId1"/>
          <a:stretch/>
        </p:blipFill>
        <p:spPr>
          <a:xfrm>
            <a:off x="5334120" y="457200"/>
            <a:ext cx="3429000" cy="2314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761760" y="3276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girls anywhere from the age of four to six before arch develop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smallest toes on each foot were brok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k bandages, ten feet long and two inches wide, were wrapped around the smallest toes and pulled tightly to the heel. Every two days, the binding was removed and rebou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3 years foot basically died causing great stenches and sometimes led to death of child through inf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prohibited later during Manchu dynasty still continued and still found in countryside tod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5" descr="footbinding"/>
          <p:cNvPicPr/>
          <p:nvPr/>
        </p:nvPicPr>
        <p:blipFill>
          <a:blip r:embed="rId1"/>
          <a:stretch/>
        </p:blipFill>
        <p:spPr>
          <a:xfrm>
            <a:off x="152280" y="228600"/>
            <a:ext cx="4572000" cy="4532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artc"/>
          <p:cNvPicPr/>
          <p:nvPr/>
        </p:nvPicPr>
        <p:blipFill>
          <a:blip r:embed="rId2"/>
          <a:stretch/>
        </p:blipFill>
        <p:spPr>
          <a:xfrm>
            <a:off x="4724280" y="3276720"/>
            <a:ext cx="39625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rs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entury Euro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https://s3-eu-west-1.amazonaws.com/3tags-prod/article/54f06aad44e3b/54f06aad4a3d4/original.png"/>
          <p:cNvPicPr/>
          <p:nvPr/>
        </p:nvPicPr>
        <p:blipFill>
          <a:blip r:embed="rId1"/>
          <a:stretch/>
        </p:blipFill>
        <p:spPr>
          <a:xfrm>
            <a:off x="797040" y="3395520"/>
            <a:ext cx="4182840" cy="269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http://www.trashydiva.com/Image/Brooke-Corset%20Blog-17thcenturycorsets.jpeg"/>
          <p:cNvPicPr/>
          <p:nvPr/>
        </p:nvPicPr>
        <p:blipFill>
          <a:blip r:embed="rId2"/>
          <a:stretch/>
        </p:blipFill>
        <p:spPr>
          <a:xfrm>
            <a:off x="5334120" y="1420920"/>
            <a:ext cx="33764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arly China (a reminder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43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Zhou Dynasty (1030-771 BC) – utilized the “</a:t>
            </a: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Mandate of Heaven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” to overthrow Shang Dynasty set up a feudal system, made first books, calendar, silk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Emperor Qin (221 BC)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– Created First Empire, began Great Wall, built royal tomb, unified Chinese calligraphy, standardized system of weights and measurements, coined money (circular w/square hole – to keep on string for protection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an Dynasty (202 BC – 22- AD– eased the harsh policies of Qin and reduced taxes – would last 400 yrs.  Best known – Wudi who made </a:t>
            </a: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civil service system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based on Confucius.  Made 1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paper, acupuncture, anesthesia, used Silk Road for lucrative Silk trade with Roman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chanpina"/>
          <p:cNvPicPr/>
          <p:nvPr/>
        </p:nvPicPr>
        <p:blipFill>
          <a:blip r:embed="rId1"/>
          <a:stretch/>
        </p:blipFill>
        <p:spPr>
          <a:xfrm>
            <a:off x="7391520" y="228600"/>
            <a:ext cx="1466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440" y="526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Verdana"/>
              </a:rPr>
              <a:t>Jan. 201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825640" y="533520"/>
            <a:ext cx="6048360" cy="3562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7654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54453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ngols will take over Chi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56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Verdana"/>
              </a:rPr>
              <a:t>Pastoria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ople from Mongolia.  Organized into cla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4" descr="map"/>
          <p:cNvPicPr/>
          <p:nvPr/>
        </p:nvPicPr>
        <p:blipFill>
          <a:blip r:embed="rId1"/>
          <a:stretch/>
        </p:blipFill>
        <p:spPr>
          <a:xfrm>
            <a:off x="3048120" y="2743200"/>
            <a:ext cx="54100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gents Pract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6824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oth the Ancient Romans and the Ancient Chinese viewed foreigners as barbarians. This is an example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 materiali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eriali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thnocentri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ltural diffu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tch07_03"/>
          <p:cNvPicPr/>
          <p:nvPr/>
        </p:nvPicPr>
        <p:blipFill>
          <a:blip r:embed="rId1"/>
          <a:stretch/>
        </p:blipFill>
        <p:spPr>
          <a:xfrm>
            <a:off x="5087880" y="0"/>
            <a:ext cx="40561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7">
            <a:hlinkClick r:id="rId2"/>
          </p:cNvPr>
          <p:cNvSpPr/>
          <p:nvPr/>
        </p:nvSpPr>
        <p:spPr>
          <a:xfrm>
            <a:off x="42670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Rectangle 1" descr=""/>
          <p:cNvPicPr/>
          <p:nvPr/>
        </p:nvPicPr>
        <p:blipFill>
          <a:blip r:embed="rId3"/>
          <a:stretch/>
        </p:blipFill>
        <p:spPr>
          <a:xfrm>
            <a:off x="384120" y="2736720"/>
            <a:ext cx="3444840" cy="22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http://www.china-mike.com/wp-content/uploads/2011/01/grand-canal-map.jpg"/>
          <p:cNvPicPr/>
          <p:nvPr/>
        </p:nvPicPr>
        <p:blipFill>
          <a:blip r:embed="rId1"/>
          <a:stretch/>
        </p:blipFill>
        <p:spPr>
          <a:xfrm>
            <a:off x="5140440" y="1770120"/>
            <a:ext cx="3470040" cy="4711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i Dynasty (581-617 A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386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united China after barbarian invas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olidated empire w/state-supported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Buddhis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two-tiered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bureaucrac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ructed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Grand Can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tw. Yangtze &amp; Yellow – longest man-made waterway in history (1200 mi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gatives – used forced labor, high taxes, military failures (Shortest Lived Dynas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9" descr="xyunhe1"/>
          <p:cNvPicPr/>
          <p:nvPr/>
        </p:nvPicPr>
        <p:blipFill>
          <a:blip r:embed="rId2"/>
          <a:stretch/>
        </p:blipFill>
        <p:spPr>
          <a:xfrm>
            <a:off x="5140440" y="1828800"/>
            <a:ext cx="36226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ng Dynasty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618-907 A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ire Builders (Celestial Empire) – conquered territories deep into Central Asia (88 Asian peoples controlled by Tang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Vietnam, Tibet &amp; Korea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tributary sta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although independent had to pay tribute to Ch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lden Age of Culture –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Li Ba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famous poet),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ood block printing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ss (from India), playing c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Image:Tang dynasty1.PNG"/>
          <p:cNvPicPr/>
          <p:nvPr/>
        </p:nvPicPr>
        <p:blipFill>
          <a:blip r:embed="rId1"/>
          <a:stretch/>
        </p:blipFill>
        <p:spPr>
          <a:xfrm>
            <a:off x="4876920" y="380880"/>
            <a:ext cx="3924360" cy="346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upload.wikimedia.org/wikipedia/commons/thumb/8/88/Ming_Dynasty_playing_card%2C_c._1400.jpg/160px-Ming_Dynasty_playing_card%2C_c._1400.jpg"/>
          <p:cNvPicPr/>
          <p:nvPr/>
        </p:nvPicPr>
        <p:blipFill>
          <a:blip r:embed="rId2"/>
          <a:stretch/>
        </p:blipFill>
        <p:spPr>
          <a:xfrm>
            <a:off x="4648320" y="2514600"/>
            <a:ext cx="1523880" cy="4133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6178680" y="4952880"/>
            <a:ext cx="2666880" cy="1447920"/>
          </a:xfrm>
          <a:prstGeom prst="rect">
            <a:avLst/>
          </a:prstGeom>
          <a:solidFill>
            <a:srgbClr val="0000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arliest Playing Card – first known game was “Leaf Game” dated to 868 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i Bai (Li Bo) – 8</a:t>
            </a:r>
            <a:r>
              <a:rPr b="0" lang="en-US" sz="3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c. Daoist Poet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mongst the flowers is a pot of wine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I pour alone but with no friend at hand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So I lift the cup to invite the shining moon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long with my shadow, a fellowship of three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The moon understands not the art of drinking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The shadow gingerly follows my movements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Still I make the moon and the shadow my company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To enjoy the springtime before too late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The moon lingers while I am singing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The shadow scatters while I am dancing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We share the cheers of delight when sober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We separate our ways after getting drunk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Forever will we keep this unfettered friendship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Til we meet again far in the Milky Way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Dancing_under_the_moon_by_WitchChild93"/>
          <p:cNvPicPr/>
          <p:nvPr/>
        </p:nvPicPr>
        <p:blipFill>
          <a:blip r:embed="rId1"/>
          <a:stretch/>
        </p:blipFill>
        <p:spPr>
          <a:xfrm>
            <a:off x="6286680" y="3429000"/>
            <a:ext cx="2857320" cy="3429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"/>
          <p:cNvSpPr/>
          <p:nvPr/>
        </p:nvSpPr>
        <p:spPr>
          <a:xfrm>
            <a:off x="609480" y="5638680"/>
            <a:ext cx="5257800" cy="1219320"/>
          </a:xfrm>
          <a:prstGeom prst="rect">
            <a:avLst/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oss – Curricular – What poetic devices can you spot in this poem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6:09:21Z</dcterms:created>
  <dc:creator>Lyons, Anne</dc:creator>
  <dc:description/>
  <dc:language>en-US</dc:language>
  <cp:lastModifiedBy>Windows User</cp:lastModifiedBy>
  <dcterms:modified xsi:type="dcterms:W3CDTF">2017-02-27T12:18:58Z</dcterms:modified>
  <cp:revision>119</cp:revision>
  <dc:subject/>
  <dc:title>The Asian World 400-1500</dc:title>
</cp:coreProperties>
</file>